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387-4AC1-4FAE-ACCC-57408AD8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688-BADC-4EEF-9CBC-14B54C07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AE5-8327-4E84-A510-0B74A00C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599-3E25-4CA9-BD17-B1A810AC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043A-152E-413D-A07D-F9918A08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43C7-68A6-4791-A203-C47CC001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1DC5-195B-4954-8D6D-1D0B9D57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E0B7-8C79-415B-BC9D-841251B0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8E2-86A2-4065-8609-3DFCB040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095E-FF80-4ECB-89C2-3C796862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21BB-B329-4249-8C1A-2B942D8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791-DB42-45A8-8EE1-A321B520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18D7-43B7-4AC2-B3F2-985AE82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945C-2920-4155-B16D-4EFC56E1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1FAF-F73E-4C56-8ECA-52728467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3B54-D7C0-4D87-B768-DD5AC795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3DEC-483F-4331-9B95-B4B78467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159-FFD6-448C-B1E0-17DCC84B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3D4-B7C7-43EC-B790-EC618DF7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43E-6089-4054-A824-3C117972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EAD-CB24-45AB-831A-F2836D9B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B54-F247-4702-918B-1662397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D38-A1AA-48F1-91AA-84B66BE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4DF-D3A4-41F9-B0F3-968F8551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9DF6-80CF-4994-8ADF-237DDFB41A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18B0-0C32-438A-846E-E6D23EC866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view/Preview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tivating Prior Knowledg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yramid 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’s turn so your back is facing the scre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’s turn so you can see the scre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slide comes up, start at the bottom left and go across giving clues to your partner.  When your partner gets a category, give the next clue until you have reached the top of the pyram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your partner a HI FIV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one want to volunte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hel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66800" y="175248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XKXa_ExgKnc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0840" y="2438280"/>
            <a:ext cx="70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D4AwXBmHHos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yramid 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’s turn so your back is facing the scre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’s turn so you can see the scre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slide comes up, start at the bottom left and go across giving clues to your partner.  When your partner gets a category, give the next clue until you have reached the top of the pyram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your partner a HI FIV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8915400" cy="63244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419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11430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s  that happened in the 1970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5257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 of 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971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8195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s Albert Einstein would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5257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380880"/>
            <a:ext cx="8915400" cy="63248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4419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29718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-90-90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48769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an Acquisition 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28195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Graphic Organ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5029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to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9144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 Summarizer Would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4876920"/>
            <a:ext cx="152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ing Think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2133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380880"/>
            <a:ext cx="8915400" cy="63248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4419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419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219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an LF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52578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to “Launch” a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971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Vocabulary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257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Summar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31240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5257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for Scaffo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4038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4038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15Z</dcterms:created>
  <dc:creator>nneusbaum</dc:creator>
  <dc:description/>
  <dc:language>en-US</dc:language>
  <cp:lastModifiedBy>ccapozzoli</cp:lastModifiedBy>
  <dcterms:modified xsi:type="dcterms:W3CDTF">2009-01-29T18:00:14Z</dcterms:modified>
  <cp:revision>8</cp:revision>
  <dc:subject/>
  <dc:title>Slide 1</dc:title>
</cp:coreProperties>
</file>